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CD9-F067-45FB-8B38-C393422C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094-790E-4EFA-AA91-DC747486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C02-95EF-4AAE-B9B7-5550D9E6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FDF-2D56-42F1-8AD2-54696DC1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E6A-D4BA-47B4-B57D-37059B62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67D-F108-49B3-91A2-FBA5C934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974-657E-4D1E-B01A-6980C338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547-D6CA-4AAB-A4B7-64846A93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E64-6DD2-4177-8CDA-B4B8F1FA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2FE2-A776-4744-9045-E78C668F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69C-3E2F-4FFC-8D83-64DC6B07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FE8-A149-4675-8D24-3C4D2C09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D3C4-4DC3-41DD-81C9-02CB728358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Introduction to regress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3C. Least-squares regress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nother method for finding the equation of a straight line is the least-squares regressio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Least-squares works by mathematically balancing the distance that points are away from the regression lin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asy to work out using CAS calculato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Using CA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nput data into spreadsheet on Lists &amp; Spreadshee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reate scatterplot in Data &amp; Statistic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n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MENU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4: Analys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6: Regressio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1: Show Linear (mx+b)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[or 2: Show Linear (a+bx)]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o find r and r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Go back to Lists &amp; Spreadsheet pag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MENU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4: Statistic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1: Stat Calculatio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3: Linear Regression (mx+b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Fill in the table with X List as the independent variable and Y List as the dependent variabl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ercise 3C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n, you do Q.2 and Q.3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"/>
              </a:rPr>
              <a:t>Calculating least-squares regression by hand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you are given a summary of the data rather than the data itself, you may need to calculate the least-squares regression by han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ummary data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mean of the independent variab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mean of the dependent variab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mbria"/>
              </a:rPr>
              <a:t>x</a:t>
            </a: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     the standard deviation of the independent variab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mbria"/>
              </a:rPr>
              <a:t>y       </a:t>
            </a: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standard deviation of the dependent variab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r      Pearson’s product-moment correlation coeffici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1285920" y="2214720"/>
          <a:ext cx="35712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214720"/>
                    <a:ext cx="3571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6"/>
          <p:cNvGraphicFramePr/>
          <p:nvPr/>
        </p:nvGraphicFramePr>
        <p:xfrm>
          <a:off x="1285920" y="2714760"/>
          <a:ext cx="3333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2714760"/>
                    <a:ext cx="333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he formula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general form of the least-squares regression line is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slope of the regression line 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y-intercept of the regression line is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4000680" y="2143080"/>
          <a:ext cx="224136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143080"/>
                    <a:ext cx="2241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6500880" y="3000240"/>
          <a:ext cx="1285920" cy="114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0880" y="3000240"/>
                    <a:ext cx="128592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7343640" y="4357800"/>
          <a:ext cx="180036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43640" y="4357800"/>
                    <a:ext cx="1800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ample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3C, Q.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n, you do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5(a)(d), 7, 10, 11, 12, 13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23:16:56Z</dcterms:created>
  <dc:creator>08843474</dc:creator>
  <dc:description/>
  <dc:language>en-US</dc:language>
  <cp:lastModifiedBy>08843474</cp:lastModifiedBy>
  <dcterms:modified xsi:type="dcterms:W3CDTF">2011-03-06T00:33:25Z</dcterms:modified>
  <cp:revision>2</cp:revision>
  <dc:subject/>
  <dc:title>Introduction to regression</dc:title>
</cp:coreProperties>
</file>